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23C1-03D9-4854-99D4-230B9AD52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8075-9CF1-499A-9B02-B1C1033F5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7574A-4E1C-4F3F-BD78-ECB33B0C3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6FD6A-D4A1-4C3A-BCD9-5B648B1B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39CDF-2DC5-49CF-98C5-E2E2F2E4C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2491B-A12A-4652-BF53-A0A280078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01A1-CE7F-4B46-9DCC-F92E731B6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209E-710F-44BC-8789-9895CF0F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6C4B-B91A-464C-AA05-1A35CBD0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14FA-AEEB-4FFD-9D6D-17AD2CDE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302E-1B11-4C72-B09C-D0143E27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E7DD-3FDA-4F31-B087-C9CCE809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2EA0-BEB6-4B31-9186-CEBFA0D8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0AD3F-C50F-42E4-A1D4-4FC682AC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5954-E44E-45B0-A553-83F7C9FD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DD5A-974D-46FB-A833-45FBAE51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08BF-8A2C-42A9-9A15-3F2C2491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7F8E-E1DE-4CBB-825A-BC4421E3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A592-1F8D-4DE8-98A3-D2633C85B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6043B-77CC-45E7-B19A-1873C0F7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F4C3A-EC8F-41EA-ACED-05C25B14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34FA7-FA8E-4826-98DD-EB8F7E6C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1F17A-F17F-4850-8D6F-B41044F4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8CD19-4DD5-4FAA-B872-622D6AA2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06F64-FC9B-481D-A890-87E5CD86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6B0FD-920D-4915-8DBE-04DFECC3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E898-45FE-484C-BA3D-318034D200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01AC-5557-4BAB-BCCF-30C962A0DE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NTER LINE UNIFIED POWER QUALITY CONDITIONER</a:t>
            </a:r>
            <a:br>
              <a:rPr sz="4000"/>
            </a:br>
            <a:br>
              <a:rPr sz="6600"/>
            </a:b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495320" y="4419720"/>
            <a:ext cx="4343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DLI AGAI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AN DONTHARABO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SYSTEM RESPONSE WITH OUT IUPQ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Object 2" descr=""/>
          <p:cNvPicPr/>
          <p:nvPr/>
        </p:nvPicPr>
        <p:blipFill>
          <a:blip r:embed="rId1"/>
          <a:srcRect l="-1444" t="-176" r="0" b="-2034"/>
          <a:stretch/>
        </p:blipFill>
        <p:spPr>
          <a:xfrm>
            <a:off x="1447920" y="2438280"/>
            <a:ext cx="6095880" cy="36576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2367000" y="6247800"/>
            <a:ext cx="47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bc_31,kv(voltage at third bus on feeder-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ject 4" descr=""/>
          <p:cNvPicPr/>
          <p:nvPr/>
        </p:nvPicPr>
        <p:blipFill>
          <a:blip r:embed="rId1"/>
          <a:srcRect l="-1556" t="-173" r="0" b="-1799"/>
          <a:stretch/>
        </p:blipFill>
        <p:spPr>
          <a:xfrm>
            <a:off x="838080" y="1371600"/>
            <a:ext cx="6934320" cy="43434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2290680" y="5866560"/>
            <a:ext cx="47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abc_21,A(current at second bus on feeder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SYSTEM RESPONSE WITH  IUPQ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Object 13" descr=""/>
          <p:cNvPicPr/>
          <p:nvPr/>
        </p:nvPicPr>
        <p:blipFill>
          <a:blip r:embed="rId1"/>
          <a:srcRect l="-1556" t="-1958" r="0" b="-2126"/>
          <a:stretch/>
        </p:blipFill>
        <p:spPr>
          <a:xfrm>
            <a:off x="1219320" y="1905120"/>
            <a:ext cx="7010280" cy="37288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2367000" y="5942880"/>
            <a:ext cx="47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bc_31,kv(voltage at third bus on feeder-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Object 16" descr=""/>
          <p:cNvPicPr/>
          <p:nvPr/>
        </p:nvPicPr>
        <p:blipFill>
          <a:blip r:embed="rId1"/>
          <a:srcRect l="-1556" t="-878" r="0" b="-2038"/>
          <a:stretch/>
        </p:blipFill>
        <p:spPr>
          <a:xfrm>
            <a:off x="1143000" y="1371600"/>
            <a:ext cx="6280200" cy="43513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2290680" y="5942880"/>
            <a:ext cx="47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abc_21,A(current at second bus on feeder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Object 18" descr=""/>
          <p:cNvPicPr/>
          <p:nvPr/>
        </p:nvPicPr>
        <p:blipFill>
          <a:blip r:embed="rId1"/>
          <a:srcRect l="-1444" t="-2107" r="0" b="-1742"/>
          <a:stretch/>
        </p:blipFill>
        <p:spPr>
          <a:xfrm>
            <a:off x="990720" y="1143000"/>
            <a:ext cx="7086600" cy="44956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2290680" y="5790600"/>
            <a:ext cx="48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c 1a(voltage across the feedback capaci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UPQC is able to protect the distribution system from various disturbances occurring either in Feed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nsitive load is fully protected against sag/swell and interrup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he presence of IUPQC the performance of the system is impro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6600" spc="-1" strike="noStrike">
                <a:solidFill>
                  <a:srgbClr val="ff9900"/>
                </a:solidFill>
                <a:latin typeface="Comic Sans MS"/>
              </a:rPr>
              <a:t>TH</a:t>
            </a:r>
            <a:r>
              <a:rPr b="1" lang="en-US" sz="6600" spc="-1" strike="noStrike">
                <a:solidFill>
                  <a:srgbClr val="00b0f0"/>
                </a:solidFill>
                <a:latin typeface="Comic Sans MS"/>
              </a:rPr>
              <a:t>AN</a:t>
            </a:r>
            <a:r>
              <a:rPr b="1" lang="en-US" sz="6600" spc="-1" strike="noStrike">
                <a:solidFill>
                  <a:srgbClr val="00b050"/>
                </a:solidFill>
                <a:latin typeface="Comic Sans MS"/>
              </a:rPr>
              <a:t>KQ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Diagram 4" descr=""/>
          <p:cNvPicPr/>
          <p:nvPr/>
        </p:nvPicPr>
        <p:blipFill>
          <a:blip r:embed="rId1"/>
          <a:stretch/>
        </p:blipFill>
        <p:spPr>
          <a:xfrm>
            <a:off x="835200" y="2206800"/>
            <a:ext cx="805968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BSR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improve the power quality of two feeders in a distribution syst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 new connection for a Unified Power Quality Conditioner (UPQC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vice (IUPQC) is connected between two feeders coming from different subs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d for improving the power qua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AFFECTING POWER QU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Harmo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Voltage Notch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Voltage S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Voltage Sw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Voltage Flick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ransi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SINGLE  LINE DIAGRAM OF IUPQ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934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STRUCTURE OF IUPQ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500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TYPICAL IUPQC CONNECTED IN DISTRIBUTION SYSTE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83822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UNT CONNECTED VS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1809720" y="1905120"/>
            <a:ext cx="5524560" cy="40384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055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IES CONNECTED VS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886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5:01:39Z</dcterms:created>
  <dc:creator>shruthi</dc:creator>
  <dc:description/>
  <dc:language>en-US</dc:language>
  <cp:lastModifiedBy>rainbow9</cp:lastModifiedBy>
  <dcterms:modified xsi:type="dcterms:W3CDTF">2010-09-03T12:53:43Z</dcterms:modified>
  <cp:revision>14</cp:revision>
  <dc:subject/>
  <dc:title>A PROJECT REPORT ON  INTER LINE UNIFIED POWER QUALITY CONDITIONER                  </dc:title>
</cp:coreProperties>
</file>